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F1C-6106-41DB-A0C4-70D35685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8CB-8163-4C48-9FCB-FAD721AC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86B-0533-479E-A4D0-1009D720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8A7-4BB1-4054-A9C4-6E823821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838A-DB17-47C2-AE92-DFA5103E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DFF2-9016-4BEC-896F-E4200964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32C5-D6F5-42CC-B8AD-2D487A95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1107-AFF4-40F5-AF3C-62DC15F0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A4DE-7FB9-4C76-B49E-A5A7C1E1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5A42-FE23-4BE4-9BA0-D8E394A0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7B12-84E5-401C-B201-569E96CD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5BC-8283-41E5-8516-B133E04B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CD0E-C0B9-4311-BAC8-1228AFBC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7D80-EA5B-4660-93DA-5111AC18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9654-024E-41F5-BD72-950BEE38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AC04-A1E1-470B-8B49-F174F077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7D93-3DE1-435A-9AE1-020DB6B6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1CF1-3B48-4C1D-9F4E-9F1C02B3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358A-7F00-44E8-84C9-A6A8C0E4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1B79-960C-4FA9-83DD-2F68F968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4864-3195-4116-AE67-C297E6AD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74B1-C22F-42B3-BF4A-DC4C55FE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3BA-3E22-4AEB-A65B-8E0087B2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5292-A6C8-404A-8F42-608C0A3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A2D3-2D94-4692-A0FF-65881572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B80C-A48B-4740-8942-6F8430D1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329A-05FC-4F89-9C07-419754FE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1826-222E-4504-8FFC-D5905FE7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275F-CCCE-4815-A1AE-E73C7353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74B8-7648-47CE-AF88-DE6BD6A2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1239-B399-4E7B-B086-7844EE96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3835-1A4B-44A6-836E-90A596E7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2550-42EE-4EF9-990D-7C3D9C5D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5F0-4097-4A3D-A15F-D2B0424C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938AC-9624-4F36-AA60-D4909445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BE45-B415-4E7C-A3DF-C64D219B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E69B-41BF-4D75-9B04-6F897EE6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479D-5CB2-4D4F-9DC4-08F47842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BAAA2-ED3D-4240-876D-69EDEEE4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C4903-2520-4E7F-80FE-DCB2EF53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9DF14-A81F-4B1B-AE2E-4D5D6B9F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5FB3-34B4-4960-BE22-6785FF48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2693C-1035-4023-B668-8C3BD798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077C1-C4A1-4E87-A983-E3C8C03B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0D7-E0F1-4FB0-80B1-E6D2DC7B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5F619-C06B-4C5F-A13D-2D87D148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AAB3F-F0AC-4028-A414-36C69E56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2EA34-4FDB-4C23-9BD2-A8156EDC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482CD-D330-474A-9BE3-E5BF3117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442DE-4C7F-4965-813F-C72E3C7F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AAB53-CD86-4C69-99B2-C25A4F1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2D9A9-3C69-4A8C-8777-3605EDAE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1690E-5633-4650-9B62-0C634E8B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29C90-F376-4BF0-8556-7230AB8F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2047C-1786-48A6-9FF9-7B2DD9ED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ABB-30D4-4279-BDE8-98EC587E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D0B8-17EB-4170-A0C9-BC74B436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73544-2AB8-43C2-8A82-C64F1FFA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B8973-4878-4572-99C3-03FD4A62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F5652-E8D2-49CA-81F5-F9CAB707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B5B13-325A-4440-ADB9-155BAB54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A6FA3-AC50-4429-BA43-7EFE6EE2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B9875-1FC4-4986-88EC-00797D18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0B691-737A-486F-AC96-9F1352FB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66277-9BD1-46E6-B51F-10FFC5A9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8AF87-66A6-4675-9034-A56AD8B9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572-E3C3-4E62-A393-2978691E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ACBCB-2327-44AA-AF27-A8CF9EA5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2FB46-B51C-47CE-986C-51F8A60D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ABDDB-D5FB-4478-B42E-AFBAAA76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C33-C59D-4A1A-81CD-DC8E6471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186-88D3-4D06-ACD8-E6B23E1D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C8B2-677A-4E02-A95C-441A550D368D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468A-71A6-4CA3-8036-192236E84EB6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2957-77FB-44BD-BEBE-23BC862BDA0F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7982-D639-4BF4-9A8B-DF2D85C1528D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B942-17B5-4C36-AA08-E1282591210B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F129-38A0-4026-A149-26F30D4ABE99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905120" y="5867280"/>
            <a:ext cx="657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5638680" y="380520"/>
            <a:ext cx="327672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b9811"/>
                </a:solidFill>
                <a:latin typeface="Britannic Bold"/>
              </a:rPr>
              <a:t>HOW TO SUCCESSFULLY USE YOUR STUDENT AGENDA</a:t>
            </a:r>
            <a:br>
              <a:rPr sz="3600"/>
            </a:b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4" descr="planner.JPG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00240" y="22824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5009"/>
                </a:solidFill>
                <a:latin typeface="Trebuchet MS"/>
              </a:rPr>
              <a:t>BE RESPONSIB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419720" y="24379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792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97923"/>
                </a:solidFill>
                <a:latin typeface="Calibri"/>
              </a:rPr>
              <a:t>Using your agenda will help you to become a more responsible student.  It will also assist in making you a responsible ad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5" descr="13.JPG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00240" y="22824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5009"/>
                </a:solidFill>
                <a:latin typeface="Trebuchet MS"/>
              </a:rPr>
              <a:t>SET EXPECT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419720" y="24379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792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97923"/>
                </a:solidFill>
                <a:latin typeface="Calibri"/>
              </a:rPr>
              <a:t>Using your agenda will help you to you to set high expectations for yourself.  Then you can attain your goals with eas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5" descr="13.JPG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13.JPG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409720" y="-360"/>
            <a:ext cx="3429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5009"/>
                </a:solidFill>
                <a:latin typeface="Trebuchet MS"/>
              </a:rPr>
              <a:t>YOUR AGENDA IS ALSO YOUR HALL PAS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9" descr="hall pass.JPG"/>
          <p:cNvPicPr/>
          <p:nvPr/>
        </p:nvPicPr>
        <p:blipFill>
          <a:blip r:embed="rId1"/>
          <a:stretch/>
        </p:blipFill>
        <p:spPr>
          <a:xfrm>
            <a:off x="0" y="0"/>
            <a:ext cx="51228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5486400" y="19051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I go to the bathroo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need to call home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2" descr="C:\Documents and Settings\boehmr\Local Settings\Temporary Internet Files\Content.IE5\VZ6L07MM\MP900400294[1].jpg"/>
          <p:cNvPicPr/>
          <p:nvPr/>
        </p:nvPicPr>
        <p:blipFill>
          <a:blip r:embed="rId2"/>
          <a:stretch/>
        </p:blipFill>
        <p:spPr>
          <a:xfrm>
            <a:off x="5486400" y="373392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b5009"/>
                </a:solidFill>
                <a:latin typeface="Trebuchet MS"/>
              </a:rPr>
              <a:t>ALSO IN YOUR AGENDA…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7" name="Content Placeholder 3" descr="comm.JPG"/>
          <p:cNvPicPr/>
          <p:nvPr/>
        </p:nvPicPr>
        <p:blipFill>
          <a:blip r:embed="rId1"/>
          <a:stretch/>
        </p:blipFill>
        <p:spPr>
          <a:xfrm>
            <a:off x="0" y="0"/>
            <a:ext cx="3886200" cy="38401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grammar.JPG"/>
          <p:cNvPicPr/>
          <p:nvPr/>
        </p:nvPicPr>
        <p:blipFill>
          <a:blip r:embed="rId2"/>
          <a:stretch/>
        </p:blipFill>
        <p:spPr>
          <a:xfrm>
            <a:off x="4038480" y="838080"/>
            <a:ext cx="5105520" cy="3505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istory.JPG"/>
          <p:cNvPicPr/>
          <p:nvPr/>
        </p:nvPicPr>
        <p:blipFill>
          <a:blip r:embed="rId3"/>
          <a:stretch/>
        </p:blipFill>
        <p:spPr>
          <a:xfrm>
            <a:off x="0" y="38862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map.JPG"/>
          <p:cNvPicPr/>
          <p:nvPr/>
        </p:nvPicPr>
        <p:blipFill>
          <a:blip r:embed="rId4"/>
          <a:stretch/>
        </p:blipFill>
        <p:spPr>
          <a:xfrm>
            <a:off x="3962520" y="4506840"/>
            <a:ext cx="51814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b5009"/>
                </a:solidFill>
                <a:latin typeface="Trebuchet MS"/>
              </a:rPr>
              <a:t>ALSO IN YOUR AGENDA…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Content Placeholder 3" descr="comm.JPG"/>
          <p:cNvPicPr/>
          <p:nvPr/>
        </p:nvPicPr>
        <p:blipFill>
          <a:blip r:embed="rId1"/>
          <a:stretch/>
        </p:blipFill>
        <p:spPr>
          <a:xfrm>
            <a:off x="0" y="0"/>
            <a:ext cx="3581280" cy="3840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grammar.JPG"/>
          <p:cNvPicPr/>
          <p:nvPr/>
        </p:nvPicPr>
        <p:blipFill>
          <a:blip r:embed="rId2"/>
          <a:stretch/>
        </p:blipFill>
        <p:spPr>
          <a:xfrm>
            <a:off x="3581280" y="914400"/>
            <a:ext cx="5562720" cy="3505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history.JPG"/>
          <p:cNvPicPr/>
          <p:nvPr/>
        </p:nvPicPr>
        <p:blipFill>
          <a:blip r:embed="rId3"/>
          <a:stretch/>
        </p:blipFill>
        <p:spPr>
          <a:xfrm>
            <a:off x="0" y="388620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map.JPG"/>
          <p:cNvPicPr/>
          <p:nvPr/>
        </p:nvPicPr>
        <p:blipFill>
          <a:blip r:embed="rId4"/>
          <a:stretch/>
        </p:blipFill>
        <p:spPr>
          <a:xfrm>
            <a:off x="3733920" y="4506840"/>
            <a:ext cx="54100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5009"/>
                </a:solidFill>
                <a:latin typeface="Trebuchet MS"/>
              </a:rPr>
              <a:t>USE YOUR AGENDA DAIL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7" name="Content Placeholder 3" descr="back cover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60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4864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T WILL HELP YOU SUCCEED!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9" name="Content Placeholder 3" descr="22.JPG"/>
          <p:cNvPicPr/>
          <p:nvPr/>
        </p:nvPicPr>
        <p:blipFill>
          <a:blip r:embed="rId1"/>
          <a:stretch/>
        </p:blipFill>
        <p:spPr>
          <a:xfrm>
            <a:off x="0" y="3429000"/>
            <a:ext cx="5181480" cy="3505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front.JPG"/>
          <p:cNvPicPr/>
          <p:nvPr/>
        </p:nvPicPr>
        <p:blipFill>
          <a:blip r:embed="rId2"/>
          <a:stretch/>
        </p:blipFill>
        <p:spPr>
          <a:xfrm>
            <a:off x="0" y="-152280"/>
            <a:ext cx="5105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2666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Content Placeholder 3" descr="plan.JPG"/>
          <p:cNvPicPr/>
          <p:nvPr/>
        </p:nvPicPr>
        <p:blipFill>
          <a:blip r:embed="rId1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Content Placeholder 5" descr="3.JPG"/>
          <p:cNvPicPr/>
          <p:nvPr/>
        </p:nvPicPr>
        <p:blipFill>
          <a:blip r:embed="rId1"/>
          <a:stretch/>
        </p:blipFill>
        <p:spPr>
          <a:xfrm>
            <a:off x="-68400" y="0"/>
            <a:ext cx="92124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Content Placeholder 3" descr="1.JPG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3" name="Content Placeholder 9" descr="6.JPG"/>
          <p:cNvPicPr/>
          <p:nvPr/>
        </p:nvPicPr>
        <p:blipFill>
          <a:blip r:embed="rId1"/>
          <a:stretch/>
        </p:blipFill>
        <p:spPr>
          <a:xfrm>
            <a:off x="-68400" y="0"/>
            <a:ext cx="92124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Content Placeholder 7" descr="8.JPG"/>
          <p:cNvPicPr/>
          <p:nvPr/>
        </p:nvPicPr>
        <p:blipFill>
          <a:blip r:embed="rId1"/>
          <a:stretch/>
        </p:blipFill>
        <p:spPr>
          <a:xfrm>
            <a:off x="-68400" y="0"/>
            <a:ext cx="92124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6858000"/>
          </a:xfrm>
          <a:prstGeom prst="rect">
            <a:avLst/>
          </a:prstGeom>
          <a:solidFill>
            <a:srgbClr val="d3f28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4114"/>
                </a:solidFill>
                <a:latin typeface="Arial Narrow"/>
              </a:rPr>
              <a:t>"THE ASSIGNMENT IS DUE WHEN? TOMORROW?“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64114"/>
                </a:solidFill>
                <a:latin typeface="Arial Narrow"/>
              </a:rPr>
              <a:t>WE'VE ALL BEEN THERE AT SOME POINT. SOMEHOW, THAT ASSIGNMENT DUE DATE JUST SLIPPED RIGHT UP ON US WITHOUT OUR NOTICING. </a:t>
            </a:r>
            <a:br>
              <a:rPr sz="2000"/>
            </a:br>
            <a:r>
              <a:rPr b="1" lang="en-US" sz="2000" spc="-1" strike="noStrike">
                <a:solidFill>
                  <a:srgbClr val="064114"/>
                </a:solidFill>
                <a:latin typeface="Arial Narrow"/>
              </a:rPr>
              <a:t>THAT IS WHY ORGANIZATIONAL SKILLS ARE SO IMPORTANT TO SCHOOL PERFORMANC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64114"/>
                </a:solidFill>
                <a:latin typeface="Arial Narrow"/>
              </a:rPr>
              <a:t>WHO CAN AFFORD TO SCORE A BIG FAT "0" ON A PAPER, JUST BECAUSE WE GOT LAZY AND DIDN'T PAY ATTENTION TO THE DUE DATE?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64114"/>
                </a:solidFill>
                <a:latin typeface="Arial Narrow"/>
              </a:rPr>
              <a:t>WHO WANTS TO GET AN "F" BECAUSE WE FORGOT TO PUT OUR COMPLETED PROJECT IN OUR BOOK BAG THE NIGHT BEFORE IT WAS DUE?</a:t>
            </a: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Content Placeholder 3" descr="4.JPG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181120" y="228600"/>
            <a:ext cx="3505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USING YOUR PLANNER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12" descr="9.JPG"/>
          <p:cNvPicPr/>
          <p:nvPr/>
        </p:nvPicPr>
        <p:blipFill>
          <a:blip r:embed="rId1"/>
          <a:stretch/>
        </p:blipFill>
        <p:spPr>
          <a:xfrm>
            <a:off x="0" y="0"/>
            <a:ext cx="4387680" cy="3276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343040" y="1752120"/>
            <a:ext cx="4800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97923"/>
                </a:solidFill>
                <a:uFillTx/>
                <a:latin typeface="Calibri"/>
              </a:rPr>
              <a:t>Non-negotiable</a:t>
            </a: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You MUST use your planner for the following information in all of your clas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Important due d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Homework assign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Testing D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Early Release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16" descr="11.JPG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81120" y="228600"/>
            <a:ext cx="3505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USING YOUR PLANNER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343040" y="1752120"/>
            <a:ext cx="4800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97923"/>
                </a:solidFill>
                <a:uFillTx/>
                <a:latin typeface="Calibri"/>
              </a:rPr>
              <a:t>Negot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You may use your planner for the following inform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School Da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Club meeting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Celeb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6" descr="14.JPG"/>
          <p:cNvPicPr/>
          <p:nvPr/>
        </p:nvPicPr>
        <p:blipFill>
          <a:blip r:embed="rId1"/>
          <a:stretch/>
        </p:blipFill>
        <p:spPr>
          <a:xfrm>
            <a:off x="0" y="-228600"/>
            <a:ext cx="4800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7:30:05Z</dcterms:created>
  <dc:creator>rebecca boehm</dc:creator>
  <dc:description/>
  <dc:language>en-US</dc:language>
  <cp:lastModifiedBy>Sabrina Giroux</cp:lastModifiedBy>
  <dcterms:modified xsi:type="dcterms:W3CDTF">2011-09-23T13:34:47Z</dcterms:modified>
  <cp:revision>20</cp:revision>
  <dc:subject/>
  <dc:title>Slide 1</dc:title>
</cp:coreProperties>
</file>